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D9A5-C7C3-4840-A195-A4AC916D8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E55B-B109-4907-8E52-BD285D1F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D137-8E0F-4D18-9FEA-01B6954B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443-EBFB-4500-9D16-242E98D5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DE54-8323-4E82-A5CF-CFF44807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FC5B-B838-4C3A-A78F-CDA81DDA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B5BB5-0BD1-4E5B-A51E-E48DBCF7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B6C5-5CC2-443D-848A-98C8FF1D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00C7-1FA2-4B14-A148-F9623915F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A00E-2EB1-4838-9390-B0B0D3929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2356D-EC3E-41C4-8558-613F9CE4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8077-395A-4DCC-9A74-FC30BBDC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90E0-97D9-4AA9-A75B-AD0C49C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BFBEE-BA41-4DA7-9D0B-0023F2B4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4C36-9C49-443E-942D-DF40BBB8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2BB9-30C9-4739-A41E-7EF6D8B70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8FE07-9F8A-4CFF-9967-D34499C5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301B-5FD0-4B9B-A79D-74191F167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628-F65A-48EB-936F-EA6B9C39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C965-8247-43E3-90F7-606B30F4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18AB-2935-47A4-863E-BB9F8A807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588E-D460-484D-92E3-F59A6344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141C-C3A2-4D30-8887-F205C06DA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6F8-1488-4277-908F-90DA75EA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942B-AF11-4F18-91ED-3ECA6A68B28E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B4967-4C57-4E0D-A3AD-D14798E8D17E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cc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b2b2b2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057400" y="3124080"/>
            <a:ext cx="485784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MAP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657600" y="117360"/>
            <a:ext cx="4267080" cy="6740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290844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Land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Taebaek Mountai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Yellow Sea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a of Japa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Korea Strait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cc"/>
                </a:solidFill>
                <a:uFillTx/>
                <a:latin typeface="Arial"/>
              </a:rPr>
              <a:t>Monsoon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8120" y="3581280"/>
            <a:ext cx="4038480" cy="30276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419720" y="990720"/>
            <a:ext cx="30477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Econom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Manufacturin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Technology, cars, textiles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Natural Resources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Tungsten, zinc and anthracit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Farming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Rice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</a:rPr>
              <a:t>Kimchi</a:t>
            </a: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019920" y="2133720"/>
            <a:ext cx="2000160" cy="1780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4191120" y="838080"/>
            <a:ext cx="2357280" cy="88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3057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46.9 Million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Seou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Christianity, Buddhism, Confucianism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895480" y="3049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6705720" y="4419720"/>
            <a:ext cx="1836720" cy="27558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1295280" y="4419720"/>
            <a:ext cx="403884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52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ffff"/>
                </a:solidFill>
                <a:latin typeface="Arial"/>
              </a:rPr>
              <a:t>History</a:t>
            </a:r>
            <a:endParaRPr b="1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Korean War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38</a:t>
            </a:r>
            <a:r>
              <a:rPr b="0" lang="en-US" sz="3000" spc="-1" strike="noStrike" baseline="30000">
                <a:solidFill>
                  <a:srgbClr val="ffffcc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 Parallel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Arial"/>
              </a:rPr>
              <a:t>Democracy</a:t>
            </a:r>
            <a:endParaRPr b="0" lang="en-US" sz="3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505320" y="152280"/>
            <a:ext cx="44226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21T18:04:13Z</dcterms:created>
  <dc:creator> John Doe</dc:creator>
  <dc:description/>
  <dc:language>en-US</dc:language>
  <cp:lastModifiedBy> John Doe</cp:lastModifiedBy>
  <dcterms:modified xsi:type="dcterms:W3CDTF">2008-06-21T19:53:26Z</dcterms:modified>
  <cp:revision>3</cp:revision>
  <dc:subject/>
  <dc:title>SOUTH KOREA</dc:title>
</cp:coreProperties>
</file>